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15A25-E21A-462A-A50A-642ABC486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10F7-DDEB-427C-9B3F-BF53AE5B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DFEE-D2BF-4436-A543-81D560F63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CC072-F142-4A38-A19B-4AAC1ACC1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09F92-CBCE-413B-8AD5-8166C0392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CC44-4466-4442-B4CA-34DB3464E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6BEC-379D-459A-BEDC-500C766A4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FD45B-66FE-4955-B088-21E698AEE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1F5FE-4FB5-4F27-BF7F-049A1998A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635D4-9362-4E99-92CC-CE54489F5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28F9-5DB0-4799-9DE5-F81BFB251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C527-1C2C-4C4A-8842-BF3260607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2F96-6891-4615-91C3-CCEA82580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091A6-7EC7-4B72-AB67-E005D4AA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5956-7933-4DA2-BB67-DAD1CBD63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152BE-F2C7-4FE8-986A-0F954AEE0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039D8-F492-4DBC-B3FE-4CF10B339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2656-BC48-4EAE-B754-76771F87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6DB0-C7A5-4A95-80F6-38CB8768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D85D-6305-4832-B950-D7D011EC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B079C-080E-49BE-BCD7-DEDF50F4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66081-14A7-424E-A094-6A83F6F7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A560-1B81-4EF8-AE8A-E93FF095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4FCF-C758-422A-AD66-488DD736F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86E2-8C7E-486A-A8E4-617F77C0E23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D867-CF3E-4613-98A6-53E99C992E6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First Republic</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National Convention</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ittee on Public Safety</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ign of Terror</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ermidorian Rea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owth of Radical Club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ueilla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pported the constitutional monarch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st party in the Legislative Assembly through 179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former nobles and wealthy middle class member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gislative Assembly</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ected by “active” citizens in October 179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bate was between </a:t>
            </a:r>
            <a:r>
              <a:rPr b="0" i="1" lang="en-US" sz="3100" spc="-1" strike="noStrike">
                <a:solidFill>
                  <a:srgbClr val="ffffff"/>
                </a:solidFill>
                <a:latin typeface="Arial"/>
              </a:rPr>
              <a:t>Monarchists</a:t>
            </a:r>
            <a:r>
              <a:rPr b="0" lang="en-US" sz="3100" spc="-1" strike="noStrike">
                <a:solidFill>
                  <a:srgbClr val="ffffff"/>
                </a:solidFill>
                <a:latin typeface="Arial"/>
              </a:rPr>
              <a:t> and </a:t>
            </a:r>
            <a:r>
              <a:rPr b="0" i="1" lang="en-US" sz="3100" spc="-1" strike="noStrike">
                <a:solidFill>
                  <a:srgbClr val="ffffff"/>
                </a:solidFill>
                <a:latin typeface="Arial"/>
              </a:rPr>
              <a:t>Republicans</a:t>
            </a:r>
            <a:r>
              <a:rPr b="0" lang="en-US" sz="3100" spc="-1" strike="noStrike">
                <a:solidFill>
                  <a:srgbClr val="ffffff"/>
                </a:solidFill>
                <a:latin typeface="Arial"/>
              </a:rPr>
              <a:t> (many of whom were quite radical)</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oreign War</a:t>
            </a:r>
            <a:endParaRPr b="0" lang="en-US" sz="3100" spc="-1" strike="noStrike">
              <a:solidFill>
                <a:srgbClr val="ffffff"/>
              </a:solidFill>
              <a:latin typeface="Arial"/>
            </a:endParaRPr>
          </a:p>
          <a:p>
            <a:pPr lvl="1" marL="952560" indent="-49536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nce was at war with several European countries who supported Louis XVI</a:t>
            </a:r>
            <a:endParaRPr b="0" lang="en-US" sz="2600" spc="-1" strike="noStrike">
              <a:solidFill>
                <a:srgbClr val="ffffff"/>
              </a:solidFill>
              <a:latin typeface="Arial"/>
            </a:endParaRPr>
          </a:p>
          <a:p>
            <a:pPr lvl="1" marL="952560" indent="-49536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nce was unprepared for war and suffered heavy loss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were told that the foreign wars were Louis’ fault</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Peasants turned against Louis since they believed Louis was cooperating with people trying to kill French soldiers</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ris Mob</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Mob gets stirred up….</a:t>
            </a:r>
            <a:endParaRPr b="0" lang="en-US" sz="2700" spc="-1" strike="noStrike">
              <a:solidFill>
                <a:srgbClr val="ffffff"/>
              </a:solidFill>
              <a:latin typeface="Arial"/>
            </a:endParaRPr>
          </a:p>
        </p:txBody>
      </p:sp>
      <p:pic>
        <p:nvPicPr>
          <p:cNvPr id="119" name="" descr=""/>
          <p:cNvPicPr/>
          <p:nvPr/>
        </p:nvPicPr>
        <p:blipFill>
          <a:blip r:embed="rId1"/>
          <a:stretch/>
        </p:blipFill>
        <p:spPr>
          <a:xfrm>
            <a:off x="4686480" y="1828800"/>
            <a:ext cx="4000320" cy="4038480"/>
          </a:xfrm>
          <a:prstGeom prst="rect">
            <a:avLst/>
          </a:prstGeom>
          <a:ln w="0">
            <a:noFill/>
          </a:ln>
        </p:spPr>
      </p:pic>
      <p:pic>
        <p:nvPicPr>
          <p:cNvPr id="120" name="" descr=""/>
          <p:cNvPicPr/>
          <p:nvPr/>
        </p:nvPicPr>
        <p:blipFill>
          <a:blip r:embed="rId2"/>
          <a:stretch/>
        </p:blipFill>
        <p:spPr>
          <a:xfrm>
            <a:off x="5029200" y="380880"/>
            <a:ext cx="3524400" cy="551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675"/>
              </a:spcBef>
              <a:buClr>
                <a:srgbClr val="99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blic Anger at the King</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 Political re-alignment occurred among the parties</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Remember – staying in / gaining power meant supporting a change in the status quo</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b) August 9-10 1792 – a mob stormed the palace at Tuileries and forced the King to flee for his life to the Legislative Assembly</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 The Legislative Assembly agreed to protect the King, but they also deposed him from the Throne</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d) They also dissolved themselves and called new elections for a new type of government – a republic in which the vote was open to all men</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ects</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euillants went into hiding as the radicals were now in char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ing and Royal Family were arreste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ational Convention</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new government was the official sovereign power, but real power lay with a group of 9 men – the Committee for Public Safet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ommittee was supported by local committees and surveillance committees across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lowly Maximilian Robespierre rose to prominenc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ximillian Robespierre</a:t>
            </a:r>
            <a:endParaRPr b="0" lang="en-US" sz="4400" spc="-1" strike="noStrike">
              <a:solidFill>
                <a:srgbClr val="ffffff"/>
              </a:solidFill>
              <a:latin typeface="Times New Roman"/>
            </a:endParaRPr>
          </a:p>
        </p:txBody>
      </p:sp>
      <p:pic>
        <p:nvPicPr>
          <p:cNvPr id="130" name="" descr=""/>
          <p:cNvPicPr/>
          <p:nvPr/>
        </p:nvPicPr>
        <p:blipFill>
          <a:blip r:embed="rId1"/>
          <a:stretch/>
        </p:blipFill>
        <p:spPr>
          <a:xfrm>
            <a:off x="1138320" y="1828800"/>
            <a:ext cx="2789280" cy="4038480"/>
          </a:xfrm>
          <a:prstGeom prst="rect">
            <a:avLst/>
          </a:prstGeom>
          <a:ln w="0">
            <a:noFill/>
          </a:ln>
        </p:spPr>
      </p:pic>
      <p:pic>
        <p:nvPicPr>
          <p:cNvPr id="131" name="" descr=""/>
          <p:cNvPicPr/>
          <p:nvPr/>
        </p:nvPicPr>
        <p:blipFill>
          <a:blip r:embed="rId2"/>
          <a:stretch/>
        </p:blipFill>
        <p:spPr>
          <a:xfrm>
            <a:off x="4686480" y="1828800"/>
            <a:ext cx="4000320" cy="4038480"/>
          </a:xfrm>
          <a:prstGeom prst="rect">
            <a:avLst/>
          </a:prstGeom>
          <a:ln w="0">
            <a:noFill/>
          </a:ln>
        </p:spPr>
      </p:pic>
      <p:pic>
        <p:nvPicPr>
          <p:cNvPr id="132" name="" descr=""/>
          <p:cNvPicPr/>
          <p:nvPr/>
        </p:nvPicPr>
        <p:blipFill>
          <a:blip r:embed="rId3"/>
          <a:stretch/>
        </p:blipFill>
        <p:spPr>
          <a:xfrm>
            <a:off x="4876920" y="1981080"/>
            <a:ext cx="337824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llapse of the Constitutional Monarchy</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uis XVI not cooperat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ising unemployment and shortage of foo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sants were restl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rance was at wa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 strong leaders to lead the revolu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obespierre’s Goals</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 the foreign wars</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ppress enemies of the Republic at hom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tablish a “Republic of Virtue”</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controlled prices of food, curved inflation and introduced food ration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eat Enemies at Home</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ial of King Louis XVI – charged with treason against the people of France and the revolution</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rial took place in the National Convention and they unanimously voted to convict him</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was executed on 23 January 179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ecution of Louis XVI</a:t>
            </a:r>
            <a:endParaRPr b="0" lang="en-US" sz="4400" spc="-1" strike="noStrike">
              <a:solidFill>
                <a:srgbClr val="ffffff"/>
              </a:solidFill>
              <a:latin typeface="Times New Roman"/>
            </a:endParaRPr>
          </a:p>
        </p:txBody>
      </p:sp>
      <p:pic>
        <p:nvPicPr>
          <p:cNvPr id="138" name="" descr=""/>
          <p:cNvPicPr/>
          <p:nvPr/>
        </p:nvPicPr>
        <p:blipFill>
          <a:blip r:embed="rId1"/>
          <a:stretch/>
        </p:blipFill>
        <p:spPr>
          <a:xfrm>
            <a:off x="533520" y="1828800"/>
            <a:ext cx="8153280" cy="4038480"/>
          </a:xfrm>
          <a:prstGeom prst="rect">
            <a:avLst/>
          </a:prstGeom>
          <a:ln w="0">
            <a:noFill/>
          </a:ln>
        </p:spPr>
      </p:pic>
      <p:pic>
        <p:nvPicPr>
          <p:cNvPr id="139" name="" descr=""/>
          <p:cNvPicPr/>
          <p:nvPr/>
        </p:nvPicPr>
        <p:blipFill>
          <a:blip r:embed="rId2"/>
          <a:stretch/>
        </p:blipFill>
        <p:spPr>
          <a:xfrm>
            <a:off x="2209680" y="1828800"/>
            <a:ext cx="49532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ecution of Louis XVI</a:t>
            </a:r>
            <a:endParaRPr b="0" lang="en-US" sz="4400" spc="-1" strike="noStrike">
              <a:solidFill>
                <a:srgbClr val="ffffff"/>
              </a:solidFill>
              <a:latin typeface="Times New Roman"/>
            </a:endParaRPr>
          </a:p>
        </p:txBody>
      </p:sp>
      <p:pic>
        <p:nvPicPr>
          <p:cNvPr id="141" name="" descr=""/>
          <p:cNvPicPr/>
          <p:nvPr/>
        </p:nvPicPr>
        <p:blipFill>
          <a:blip r:embed="rId1"/>
          <a:stretch/>
        </p:blipFill>
        <p:spPr>
          <a:xfrm>
            <a:off x="533520" y="1828800"/>
            <a:ext cx="8153280" cy="4038480"/>
          </a:xfrm>
          <a:prstGeom prst="rect">
            <a:avLst/>
          </a:prstGeom>
          <a:ln w="0">
            <a:noFill/>
          </a:ln>
        </p:spPr>
      </p:pic>
      <p:pic>
        <p:nvPicPr>
          <p:cNvPr id="142" name="" descr=""/>
          <p:cNvPicPr/>
          <p:nvPr/>
        </p:nvPicPr>
        <p:blipFill>
          <a:blip r:embed="rId2"/>
          <a:stretch/>
        </p:blipFill>
        <p:spPr>
          <a:xfrm>
            <a:off x="1752480" y="1828800"/>
            <a:ext cx="5499360" cy="39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eign of Terr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gan with the murder of Jean-Paul Marat by Girondin sympathizer Charlotte Corda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rat was a prominent and radical journalist who supported the Jacobi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d the illusion of a national crisis on which the Jacobins capitalize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eath of Marat</a:t>
            </a:r>
            <a:r>
              <a:rPr b="0" lang="en-US" sz="4000" spc="-1" strike="noStrike">
                <a:solidFill>
                  <a:srgbClr val="ffffff"/>
                </a:solidFill>
                <a:latin typeface="Times New Roman"/>
              </a:rPr>
              <a:t> – Jacques-Louis David</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2209680" y="1828800"/>
            <a:ext cx="441972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feat Enemies at Home (AKA </a:t>
            </a:r>
            <a:r>
              <a:rPr b="0" i="1" lang="en-US" sz="4000" spc="-1" strike="noStrike">
                <a:solidFill>
                  <a:srgbClr val="ffffff"/>
                </a:solidFill>
                <a:latin typeface="Times New Roman"/>
              </a:rPr>
              <a:t>The Reign of Terror</a:t>
            </a: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1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first, Trials were used for other enemies of the Republic – later summary execution became routin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was a widespread desire for vengeance against “traitor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ie Antoinet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000 dead on the Guilloti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ideal Republic the highest aim of the citizen is the achievement of the General Will</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reedom and harmony were noble aspiration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ve of country and ideals of the revolution was paramou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were trying to achieve Utopi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obespierre and the CPS found any differing views of patriotism, loyalty and revolutionary ideals to be suspect and potentially treasono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nted to create a new socie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tate religion (Catholicism) was replac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Cult of the Supreme Be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urches were renamed “Temples of Reason”</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became popular for devout revolutionaries to baptize their children not with “Father, Son and Holy Ghost” but with “Liberty, Equality and Fraternity”, the slogan of the French Revolu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uis XVI Felt Threatened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ordered the return of soldiers to the Palace of Versaill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gave rise to rumours that he was preparing to use troops against the Paris mob</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publican Calendar</a:t>
            </a:r>
            <a:endParaRPr b="0" lang="en-US" sz="4400" spc="-1" strike="noStrike">
              <a:solidFill>
                <a:srgbClr val="ffffff"/>
              </a:solidFill>
              <a:latin typeface="Times New Roman"/>
            </a:endParaRPr>
          </a:p>
        </p:txBody>
      </p:sp>
      <p:sp>
        <p:nvSpPr>
          <p:cNvPr id="1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claimed by National Convention</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 months, each divided into 3 10-day weeks called decad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day was divided into ten hours, each hour into 100 decimal minutes and each decimal minute had 100 decimal seconds. Thus an hour was more than twice as long as a conventional hour; a minute was slightly longer than a conventional minute; and a second was slightly shorter than a conventional second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obespierre saw his opponents not just as personal enemies, but as wicked men determined to prevent the salvation of mankind on Earth</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r>
              <a:rPr b="0" lang="en-US" sz="2700" spc="-1" strike="noStrike">
                <a:solidFill>
                  <a:srgbClr val="ffffff"/>
                </a:solidFill>
                <a:latin typeface="Arial"/>
              </a:rPr>
              <a:t>If the spring of popular government in time of peace is virtue, the springs of popular government in revolution are at once </a:t>
            </a:r>
            <a:r>
              <a:rPr b="0" i="1" lang="en-US" sz="2700" spc="-1" strike="noStrike">
                <a:solidFill>
                  <a:srgbClr val="ffffff"/>
                </a:solidFill>
                <a:latin typeface="Arial"/>
              </a:rPr>
              <a:t>virtue and terror: </a:t>
            </a:r>
            <a:r>
              <a:rPr b="0" lang="en-US" sz="2700" spc="-1" strike="noStrike">
                <a:solidFill>
                  <a:srgbClr val="ffffff"/>
                </a:solidFill>
                <a:latin typeface="Arial"/>
              </a:rPr>
              <a:t>virtue, without which terror is fatal; terror, without which virtue is powerless. Terror is nothing other than justice: prompt, severe, inflexible; it is therefore an emanation of virtue; it is not so much a special principle as it is a consequence of the general principle of democracy applied to our country's most urgent need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oreign War</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was sold to the French population as “Total War” and allowed the government to take drastic measures in order to win i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duced an Army of 775,000 soldi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ntralized administr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ified Franc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it come to an end?</a:t>
            </a:r>
            <a:endParaRPr b="0" lang="en-US" sz="4400" spc="-1" strike="noStrike">
              <a:solidFill>
                <a:srgbClr val="ffffff"/>
              </a:solidFill>
              <a:latin typeface="Times New Roman"/>
            </a:endParaRPr>
          </a:p>
        </p:txBody>
      </p:sp>
      <p:sp>
        <p:nvSpPr>
          <p:cNvPr id="16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decreasing military threat (remember that the threat from foreign nations was one of the reasons it was allowed to happen in the first place)  The crisis ende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cobins were beginning to suffer from division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Dantonists” executed for “moderation” for thinking that the revolution progressed far enough</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Robespierreists” believed in intensifying the revolution and terror.  They called for new attacks on religion/Churc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it come to an end?</a:t>
            </a:r>
            <a:endParaRPr b="0" lang="en-US" sz="4400" spc="-1" strike="noStrike">
              <a:solidFill>
                <a:srgbClr val="ffffff"/>
              </a:solidFill>
              <a:latin typeface="Times New Roman"/>
            </a:endParaRPr>
          </a:p>
        </p:txBody>
      </p:sp>
      <p:sp>
        <p:nvSpPr>
          <p:cNvPr id="1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ople began to lose trust in Robespierr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ople feared for their live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bespierre got new powers in June 1794</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00 people executed in Paris in 6 week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spierre’s opponents got together to plot against h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rmidorian Reaction</a:t>
            </a:r>
            <a:endParaRPr b="0" lang="en-US" sz="4400" spc="-1" strike="noStrike">
              <a:solidFill>
                <a:srgbClr val="ffffff"/>
              </a:solidFill>
              <a:latin typeface="Times New Roman"/>
            </a:endParaRPr>
          </a:p>
        </p:txBody>
      </p:sp>
      <p:sp>
        <p:nvSpPr>
          <p:cNvPr id="16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itical – Moderates regained control of the revolution and Fra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outlawed the “Robespierreists” and Jacobin Club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ill huge problems to deal with</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d Riots in Spring 179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9 Thermidor – Thermidorian Reaction</a:t>
            </a:r>
            <a:endParaRPr b="0" lang="en-US" sz="4000" spc="-1" strike="noStrike">
              <a:solidFill>
                <a:srgbClr val="ffffff"/>
              </a:solidFill>
              <a:latin typeface="Times New Roman"/>
            </a:endParaRPr>
          </a:p>
        </p:txBody>
      </p:sp>
      <p:sp>
        <p:nvSpPr>
          <p:cNvPr id="17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 July 27 1794 Robespierre made a speech to the National Convention during which he was booed and shouted down by the deputie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as unable to convince loyal Jacobins to raid the National Convention</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oops caught him trying to start a riot</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attempted to shoot himself – missed</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and 21 others were guillotin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3 Vendemaire</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tober 4 – a mob went to the National Convention</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as otherwise insignificant except for the way it was dealt with</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my fired “a whiff of grapeshot” to disperse the crowd</a:t>
            </a:r>
            <a:endParaRPr b="0" lang="en-US" sz="2600" spc="-1" strike="noStrike">
              <a:solidFill>
                <a:srgbClr val="ffffff"/>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ree weeks later the National Convention dissolved itself and The Directory was established as the new form of govern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iff of Grapeshot</a:t>
            </a:r>
            <a:endParaRPr b="0" lang="en-US" sz="4400" spc="-1" strike="noStrike">
              <a:solidFill>
                <a:srgbClr val="ffffff"/>
              </a:solidFill>
              <a:latin typeface="Times New Roman"/>
            </a:endParaRPr>
          </a:p>
        </p:txBody>
      </p:sp>
      <p:pic>
        <p:nvPicPr>
          <p:cNvPr id="174" name="" descr=""/>
          <p:cNvPicPr/>
          <p:nvPr/>
        </p:nvPicPr>
        <p:blipFill>
          <a:blip r:embed="rId1"/>
          <a:stretch/>
        </p:blipFill>
        <p:spPr>
          <a:xfrm>
            <a:off x="380880" y="1752480"/>
            <a:ext cx="830592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ctober Day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ctober 5, 1792 – Women wanting food for their families marched on Versail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ctober 6, 1792 – Paris Mob invaded the palace and many were shot by the Royal troop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entered the inner palace and state rooms of Marie Antoinette</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forced the Royal Family to appear on the balcony to prevent the mob from storming the palace (like they did with the Bastil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iff of Grapeshot</a:t>
            </a:r>
            <a:endParaRPr b="0" lang="en-US" sz="4400" spc="-1" strike="noStrike">
              <a:solidFill>
                <a:srgbClr val="ffffff"/>
              </a:solidFill>
              <a:latin typeface="Times New Roman"/>
            </a:endParaRPr>
          </a:p>
        </p:txBody>
      </p:sp>
      <p:pic>
        <p:nvPicPr>
          <p:cNvPr id="176" name="" descr=""/>
          <p:cNvPicPr/>
          <p:nvPr/>
        </p:nvPicPr>
        <p:blipFill>
          <a:blip r:embed="rId1"/>
          <a:stretch/>
        </p:blipFill>
        <p:spPr>
          <a:xfrm>
            <a:off x="533520" y="1828800"/>
            <a:ext cx="4000320" cy="4038480"/>
          </a:xfrm>
          <a:prstGeom prst="rect">
            <a:avLst/>
          </a:prstGeom>
          <a:ln w="0">
            <a:noFill/>
          </a:ln>
        </p:spPr>
      </p:pic>
      <p:sp>
        <p:nvSpPr>
          <p:cNvPr id="17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young general who dispersed the crowd on 13 Vendemaire</a:t>
            </a:r>
            <a:endParaRPr b="0" lang="en-US" sz="2700" spc="-1" strike="noStrike">
              <a:solidFill>
                <a:srgbClr val="ffffff"/>
              </a:solidFill>
              <a:latin typeface="Arial"/>
            </a:endParaRPr>
          </a:p>
        </p:txBody>
      </p:sp>
      <p:pic>
        <p:nvPicPr>
          <p:cNvPr id="178" name="" descr=""/>
          <p:cNvPicPr/>
          <p:nvPr/>
        </p:nvPicPr>
        <p:blipFill>
          <a:blip r:embed="rId2"/>
          <a:stretch/>
        </p:blipFill>
        <p:spPr>
          <a:xfrm>
            <a:off x="457200" y="1676520"/>
            <a:ext cx="403848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ctober Day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ing agreed to leave Versailles and take up residence at the palace in Tuileries in Pari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ob felt the King’s advisors were evil and up to no good, and they wanted to keep a close watch on the King</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alace at Tuileries</a:t>
            </a:r>
            <a:endParaRPr b="0" lang="en-US" sz="4400" spc="-1" strike="noStrike">
              <a:solidFill>
                <a:srgbClr val="ffffff"/>
              </a:solidFill>
              <a:latin typeface="Times New Roman"/>
            </a:endParaRPr>
          </a:p>
        </p:txBody>
      </p:sp>
      <p:pic>
        <p:nvPicPr>
          <p:cNvPr id="101" name="" descr=""/>
          <p:cNvPicPr/>
          <p:nvPr/>
        </p:nvPicPr>
        <p:blipFill>
          <a:blip r:embed="rId1"/>
          <a:stretch/>
        </p:blipFill>
        <p:spPr>
          <a:xfrm>
            <a:off x="533520" y="1828800"/>
            <a:ext cx="8153280" cy="4038480"/>
          </a:xfrm>
          <a:prstGeom prst="rect">
            <a:avLst/>
          </a:prstGeom>
          <a:ln w="0">
            <a:noFill/>
          </a:ln>
        </p:spPr>
      </p:pic>
      <p:pic>
        <p:nvPicPr>
          <p:cNvPr id="102" name="" descr=""/>
          <p:cNvPicPr/>
          <p:nvPr/>
        </p:nvPicPr>
        <p:blipFill>
          <a:blip r:embed="rId2"/>
          <a:stretch/>
        </p:blipFill>
        <p:spPr>
          <a:xfrm>
            <a:off x="1600200" y="2057400"/>
            <a:ext cx="5715000" cy="37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uis was cooperative</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but not by choice – he was offended by the measures taken against the Churc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nobles had fled to Austria, Prussia and Belgium hoping to convince those Kingdoms to take up arms against the new government in France and restore Louis to the thron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owth of Radical Club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Jacobin Club</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st famous and radical</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ders were Jacques Danton &amp; Maximilian Robespierre</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ciety of Friends of the Constitution</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bating society with vast network throughout France</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ddle class professional men</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favour of abolishing the Monarch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th of Radical Club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rdelli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presented the working peopl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ondi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ery similar to the Jacobins – less radic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open to comprom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ere in favour of abolishing the Monarch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16:21:15Z</dcterms:created>
  <dc:creator>nbdoe</dc:creator>
  <dc:description/>
  <dc:language>en-US</dc:language>
  <cp:lastModifiedBy>Greg Peters</cp:lastModifiedBy>
  <dcterms:modified xsi:type="dcterms:W3CDTF">2009-02-15T23:50:19Z</dcterms:modified>
  <cp:revision>14</cp:revision>
  <dc:subject/>
  <dc:title>The Reign of Terr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DAP">
    <vt:lpwstr>[ContentDir]\Teacher\GC\Templates\Animated Presentation\PPTTemplate.xml</vt:lpwstr>
  </property>
  <property fmtid="{D5CDD505-2E9C-101B-9397-08002B2CF9AE}" pid="3" name="SE DAP Check Values">
    <vt:lpwstr>00000000000000000000000000000</vt:lpwstr>
  </property>
  <property fmtid="{D5CDD505-2E9C-101B-9397-08002B2CF9AE}" pid="4" name="SE DAP Default">
    <vt:lpwstr>NODEFAULTDAP</vt:lpwstr>
  </property>
  <property fmtid="{D5CDD505-2E9C-101B-9397-08002B2CF9AE}" pid="5" name="SE Mode">
    <vt:lpwstr>teacher</vt:lpwstr>
  </property>
</Properties>
</file>